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B85-B44E-4B99-BF70-F4556EE0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108-6C28-464C-A94A-0AACDE2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8ED-0EA2-4D81-A3CC-38CE4765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8EE-7FCC-4C09-B432-11A3E903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52CA-DD42-4D96-8BCB-89156D9A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B6F2-FB46-44D6-A955-4C8D405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7157-8F01-47B7-B085-92F20B3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EF23-01EB-4E62-BDDE-24669DE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EF62-777F-4715-A6A6-3A570A9B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0FEA-8583-4239-B491-0A26045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33E5-4808-46A7-A893-6E184F8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EBC-B9F6-4036-BE5D-9242CE0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EC52-7515-49E9-8A84-DDDF22F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A61-ED05-4484-856E-FE69EFFA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32E7-772F-4C44-B6CF-E9A02746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77EE-65ED-4C17-AD92-62CEC1D8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B88A-6B02-43D2-826A-D11C5B5E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E4C-8FAC-432F-9642-F040479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F05-9573-4F68-B95A-BE8AF8E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037-AEA8-4BED-A953-510EBB3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D8-5C64-4A0C-822C-B3C8C5A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600-70F1-43E4-95E7-93EBDCA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5BD-FBEE-4079-A1F2-1DE86F6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3CD-0134-48CF-9DCE-74B9267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62C-3738-45FB-A31E-D795D1A0F5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95E-127E-464C-8440-715F85F6EA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8IM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3 de abril del 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40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repasamos para la prueb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and respond to the following questions using the preterit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racticaste algún deporte el fin de semana pas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almorzaste ayer por la tar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ompraron tus padres un carro nuevo el año pas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llamó algún amigo por el teléfono ayer por la noc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legaste a tiempo esta mañana a la escue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la pasaste la semana pas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paso de la 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41"/>
          <p:cNvSpPr/>
          <p:nvPr/>
        </p:nvSpPr>
        <p:spPr>
          <a:xfrm>
            <a:off x="380880" y="20574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Mis amigos y yo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(pasar) el fin de semana pasado en la playa. Nosotros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llegar) el viernes por la noch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(pasar) dos noches en la casa de la familia de nuestro amigo Pablo. En la playa nosotros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tomar) el sol. Yo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nadar) en el mar  y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esquiar) en el agua. Catalina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bucear) . –José, ¿tú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llegar) sin traje de baño? ¿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dejar) tu bañador en casa? –Sí. No lo tengo. No lo puedo creer pero yo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dejar) mi bañador en casa. ¿Qué hacer? Pues, José 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 (comprar) un traje de baño nuevo en una ti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457200" y="2133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preterite packet. Due Tuesday April 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4-03T18:21:05Z</dcterms:modified>
  <cp:revision>32</cp:revision>
  <dc:subject/>
  <dc:title>Me llamo __________            Clase 7IM La fecha es el 14 de septiembre del 2011</dc:title>
</cp:coreProperties>
</file>